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gif" ContentType="image/gif"/>
  <Override PartName="/ppt/media/image18.png" ContentType="image/png"/>
  <Override PartName="/ppt/media/image14.png" ContentType="image/png"/>
  <Override PartName="/ppt/media/image2.wmf" ContentType="image/x-wmf"/>
  <Override PartName="/ppt/media/image3.wmf" ContentType="image/x-wmf"/>
  <Override PartName="/ppt/media/image11.png" ContentType="image/png"/>
  <Override PartName="/ppt/media/image5.wmf" ContentType="image/x-wmf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105C-2D2B-44D0-90DE-29774A96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A73C-A479-4D37-8330-F5B143B9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2EDC-362E-451F-8BA3-A0CF612A8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F448-2964-491C-B2DB-0EB3C545E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322D-D935-4F91-91A0-8E30D61E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70E7-3E33-4DB2-A24C-3028A93B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EB40-FE89-46C7-A5CB-56AD49A8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F12B-21CD-4B56-9880-63F0402A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58CF-7250-4A11-AA85-2E615C3E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AC2A-0CFF-4F20-96CA-F6A58241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E5BD-4A7E-4C71-891B-99D6E4B1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0A5A-AE25-4138-8E30-F9756C5E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D565-4217-4DF7-BC6F-289ECE17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AC97-81FC-4EF0-8E2A-0698A143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3A9A-8A70-4F85-8EB8-F5F0104E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1B3C-499C-44BB-A283-548F5948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0797-30FA-434B-81ED-C6FDCF641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26C9-7A16-4246-8B84-DC24A205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E292-4763-42C6-BEE9-37337106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042C-29AC-456C-AC99-71721561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72D6-C907-49F8-9299-6A272EBE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3EC3-771B-48EC-9173-E1E7F4B4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6639-1B46-4BD4-84FF-5A23CF18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DA00-053A-4835-8E92-95348C2A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3F1B-348B-45D7-8E35-1A9CE511F0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2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9AC6-DF93-447E-86CF-D1942F8122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To Laugh or Not to Laugh:</a:t>
            </a:r>
            <a:br>
              <a:rPr sz="62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ow people perceive humor differen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096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lly Rudde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05740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fe experienc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quisition of values/political ide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2767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bject of the Jok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We like to hear about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what we know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505480" y="2286000"/>
            <a:ext cx="2487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rojec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rote a script for performan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rganized a comedy show with other students from a theater clas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Collabora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Josh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eredith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oui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ick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mil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427032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lle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Venturing out of my comfort zon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RGANIZ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eking help from other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nking thematicall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’ve Learned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[This class wasn’t totally useless]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’s not that some people are funny and some are no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veryone can have a humorous perspective in their own righ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9880" y="3657600"/>
            <a:ext cx="1982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a evolving life skill and communication tool!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295280" y="29718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733920" y="40384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ks Cit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lly Connolly”. Online image. 28 Feb 2009.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2YearsinKiwiLandBlog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19 May 2009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http://2yearsinkiwiland.blogspot&gt;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owley, Julie. “Hostile Aggressive Parent”. Online image. 13 Jun. 2007.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StepparentAdoptionBlog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19 May 200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http://stepparent.adoptionblogs.com&gt;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Ear”. Online image. 2008. </a:t>
            </a:r>
            <a:r>
              <a:rPr b="0" lang="en-US" sz="1300" spc="-1" strike="noStrike" u="sng">
                <a:solidFill>
                  <a:srgbClr val="ffffff"/>
                </a:solidFill>
                <a:uFillTx/>
                <a:latin typeface="Arial"/>
              </a:rPr>
              <a:t>SivaramaSwami.com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. 19 May 2009. &lt;http://sivaramaswami.com&gt;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die Izzard. “Evil Giraffe”. Online video.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Youtub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 May 2009. &lt;http://youtube.com&gt;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die Izzard”. Online image. 7 Aug. 2008.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InstantRiverside.com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19 May 2009. &lt;http://instantriverside.com&gt;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nny Fruit”. Online image. 1 May 2009.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uchInaPotatoBlog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19 May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9.&lt;http://4.bp.blogspot.com/.../s400/noname11.jpg&gt;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uhlman, Thomas L. “A Study of Salience and Motivational Theories of Humor”.Journal of Personality and Social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ology. 1985: 281-286.EbscoPyschArticles. Springfield Township HS Lib. 26 Feb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9.&lt;http://ebscopyscharticles.com&gt;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ugher”. Online image. 13 Oct. 2008.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GrannySmithGreen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19 May 2009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http://gyork.co.uk/images/laughter.jpg&gt;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cGhee, Paul E. “A Developmental Test of the Dispositional Theory of Humor”.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hild Development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Sep. 1981: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25-931.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JSTOR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Springfield Township HS Lib. 3 Mar. 2009. &lt;http://jstor.org&gt;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bbs, Dean. “Personality Predicts Activity in Reward and Emotional Regions Associated with Humor”.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Th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National Academy of Science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8 Nov. 2005:16502-16506.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JSTOR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Springfield Township HS Lib. 3 Mar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9.&lt;http://jstor.org&gt;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’Brien, Mike ed.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The Best British Stand-Up and Comedy Routines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New York, NY: Carroll &amp; Graf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blishers, 2006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ts”. Online image. 11 Dec. 2003.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lepmfi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19 May 2009. &lt;http://lepfmi.gsfc.nasa.gov&gt;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ne, Robert R.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Laughter: A Scientific Investigation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New York, NY: Penguin Putnam Inc, 200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cky Gervais”. Online image. 2007.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FilmWad.com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19 May 2009. &lt;http://filmwad.com&gt;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nford, Stephanie. “Adolescent Humor During Peer Interaction”.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Social Psychology Association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. 1984: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35-243.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JSTOR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merican Sociological Association.Springfield Township HS Lib. 3 Mar. 2009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http://jstor.org&gt;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ulman, Polly. “Crack Me Up: Breaking the Humor Code”. Pyschology Today. July/August 2006. 69-7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son, Glenn D. “Ideology and Humor Preferences”.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International Political Science Review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t. 1990: 461-472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JSTOR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Sage Publications, Ltd. Springfield Township HS Lib. 3 Mar. 2009. &lt;http://jstor.org&gt;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ld Flags”. Online image.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Magma-amgm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19 May 2009. &lt;http://magma-amgm.org&gt;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Other Pictures Are From Clip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Know What It Looks Like…</a:t>
            </a:r>
            <a:br>
              <a:rPr sz="3600"/>
            </a:b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But What is Humor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362320" y="144792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ommunication tool with many positive and negative application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362320" y="5410080"/>
            <a:ext cx="898560" cy="930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248520" y="1523880"/>
            <a:ext cx="1873080" cy="1727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2438280" cy="1441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7218360" y="2362320"/>
            <a:ext cx="1925640" cy="2057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6400800" y="335268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y Sense of Hum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33520" y="1828800"/>
            <a:ext cx="8153280" cy="4038480"/>
            <a:chOff x="533520" y="1828800"/>
            <a:chExt cx="8153280" cy="403848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33520" y="1828800"/>
              <a:ext cx="815328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 txBox="1"/>
            <p:nvPr/>
          </p:nvSpPr>
          <p:spPr>
            <a:xfrm>
              <a:off x="533520" y="1828800"/>
              <a:ext cx="8153280" cy="4038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ide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die Izzard “Evil Giraffe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45820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hind the Laugh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umor is not universal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y factors effect percep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343400" y="2209680"/>
            <a:ext cx="2576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sona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76920" y="2209320"/>
            <a:ext cx="400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xtroversion vs. Introvers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ggressivenes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lf-deprec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3375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5:19:27Z</dcterms:created>
  <dc:creator>097069hss</dc:creator>
  <dc:description/>
  <dc:language>en-US</dc:language>
  <cp:lastModifiedBy>Molly Ruddell</cp:lastModifiedBy>
  <dcterms:modified xsi:type="dcterms:W3CDTF">2009-05-20T00:09:46Z</dcterms:modified>
  <cp:revision>112</cp:revision>
  <dc:subject/>
  <dc:title>Title</dc:title>
</cp:coreProperties>
</file>